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058FC-3D21-4A55-AE81-5330E3E57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EC239-A4FE-4D6C-9490-4520DC38A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289DD-60D9-495C-9EA6-F23DF70E84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E6FE9A-EAB6-413E-9E25-B2F9E1117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F09B2-1050-42F5-BA4F-ACF04B4C7C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850C1-1C4E-4058-BFA9-D8C1AF8E6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08CB6-A132-40C7-AF26-CAE574704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883E6-F1E2-4E76-9D46-6D130E6AF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709CA7-1E45-4EAC-97CE-C507176F4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1B7F2-02A6-41A8-A17F-A8A277F90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5818A-43BC-4CED-A70C-85A8BB3B4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39A2A-93F9-4312-A254-5A405FB13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28F0A-3D80-4FDE-8855-10FF803F6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3C681-A17F-4101-81C1-5F423C791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9DAA0-1A56-41EB-B9FC-83B24A229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02DA6-E79C-4AD6-8995-3B0335E1B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A66243-CA57-420E-9B32-70A44FECA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4D2C7-4CBC-40F2-A572-9EDCC76A2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6C51D-25AE-43E2-A77E-0A20656C1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62B08-77AE-4628-8F1B-97F73DFAD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AAC5F-C417-46BB-8D94-6B0B8F918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91366-952C-4641-9730-626628FD0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E9051-CC5D-425F-BF18-3573BA618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0838C-3586-4D81-8BF8-9081F0782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1E155-C05A-4B02-BADF-0443B6559B1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1EA4-2C38-4B29-971E-5BE700FDD0A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80880" y="685800"/>
            <a:ext cx="8077320" cy="5821200"/>
          </a:xfrm>
          <a:prstGeom prst="rect">
            <a:avLst/>
          </a:prstGeom>
          <a:ln w="0">
            <a:noFill/>
          </a:ln>
        </p:spPr>
      </p:pic>
      <p:sp>
        <p:nvSpPr>
          <p:cNvPr id="95" name=""/>
          <p:cNvSpPr txBox="1"/>
          <p:nvPr/>
        </p:nvSpPr>
        <p:spPr>
          <a:xfrm>
            <a:off x="533520" y="304920"/>
            <a:ext cx="76197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F-HELP SKILL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Gill Sans Ultra Bold"/>
              </a:rPr>
              <a:t>My Goals</a:t>
            </a:r>
            <a:endParaRPr b="1" lang="en-US" sz="32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Bodoni MT Black"/>
              </a:rPr>
              <a:t>To become more independent learner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Bodoni MT Black"/>
              </a:rPr>
              <a:t>Be skilled at the different kinds of technology that will motivate my students</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Bodoni MT Black"/>
              </a:rPr>
              <a:t>Find ways to get my students to do more higher-order thinking skil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57200" y="0"/>
            <a:ext cx="9220320" cy="6888240"/>
          </a:xfrm>
          <a:prstGeom prst="rect">
            <a:avLst/>
          </a:prstGeom>
          <a:ln w="0">
            <a:noFill/>
          </a:ln>
        </p:spPr>
      </p:pic>
      <p:sp>
        <p:nvSpPr>
          <p:cNvPr id="119" name=""/>
          <p:cNvSpPr txBox="1"/>
          <p:nvPr/>
        </p:nvSpPr>
        <p:spPr>
          <a:xfrm>
            <a:off x="914400" y="2438280"/>
            <a:ext cx="800100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Mission Accomplished!</a:t>
            </a:r>
            <a:endPar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10342440" cy="7162920"/>
          </a:xfrm>
          <a:prstGeom prst="rect">
            <a:avLst/>
          </a:prstGeom>
          <a:ln w="0">
            <a:noFill/>
          </a:ln>
        </p:spPr>
      </p:pic>
      <p:pic>
        <p:nvPicPr>
          <p:cNvPr id="121" name="" descr=""/>
          <p:cNvPicPr/>
          <p:nvPr/>
        </p:nvPicPr>
        <p:blipFill>
          <a:blip r:embed="rId2"/>
          <a:stretch/>
        </p:blipFill>
        <p:spPr>
          <a:xfrm>
            <a:off x="0" y="0"/>
            <a:ext cx="3657600" cy="2925720"/>
          </a:xfrm>
          <a:prstGeom prst="rect">
            <a:avLst/>
          </a:prstGeom>
          <a:ln w="9360">
            <a:solidFill>
              <a:srgbClr val="003366"/>
            </a:solidFill>
            <a:miter/>
          </a:ln>
        </p:spPr>
      </p:pic>
      <p:sp>
        <p:nvSpPr>
          <p:cNvPr id="122" name=""/>
          <p:cNvSpPr/>
          <p:nvPr/>
        </p:nvSpPr>
        <p:spPr>
          <a:xfrm>
            <a:off x="2514600" y="6172200"/>
            <a:ext cx="5257800" cy="9144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 name=""/>
          <p:cNvSpPr txBox="1"/>
          <p:nvPr/>
        </p:nvSpPr>
        <p:spPr>
          <a:xfrm>
            <a:off x="2971800" y="6248520"/>
            <a:ext cx="41911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Fanny Gabal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Hilary Fria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3809520" y="2361960"/>
            <a:ext cx="4876920" cy="4257720"/>
          </a:xfrm>
          <a:prstGeom prst="rect">
            <a:avLst/>
          </a:prstGeom>
          <a:noFill/>
          <a:ln w="0">
            <a:noFill/>
          </a:ln>
        </p:spPr>
        <p:txBody>
          <a:bodyPr lIns="90000" rIns="90000" tIns="46800" bIns="46800" anchor="t">
            <a:normAutofit/>
          </a:bodyPr>
          <a:p>
            <a:pPr marL="343080" indent="-3430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Bodoni MT Black"/>
              </a:rPr>
              <a:t>	</a:t>
            </a:r>
            <a:r>
              <a:rPr b="0" lang="en-US" sz="1700" spc="-1" strike="noStrike">
                <a:solidFill>
                  <a:srgbClr val="003366"/>
                </a:solidFill>
                <a:latin typeface="Bodoni MT Black"/>
              </a:rPr>
              <a:t>Children are very conscious of the things around them. Experience is the best learning that I can give to my students. My class will produce a handicraft materials, using the things they have recycled for them to see the worth of the trash and hopefully will turn into cash.  My students will create an innovative food that can amaze not only us teachers, but also his/her parents, that as early grade 1, they can now be left alone because they have learned the areas and importance of self-help skills.</a:t>
            </a:r>
            <a:endParaRPr b="0" lang="en-US" sz="1700" spc="-1" strike="noStrike">
              <a:solidFill>
                <a:srgbClr val="003366"/>
              </a:solidFill>
              <a:latin typeface="Arial"/>
            </a:endParaRPr>
          </a:p>
        </p:txBody>
      </p:sp>
      <p:pic>
        <p:nvPicPr>
          <p:cNvPr id="97" name="" descr=""/>
          <p:cNvPicPr/>
          <p:nvPr/>
        </p:nvPicPr>
        <p:blipFill>
          <a:blip r:embed="rId1"/>
          <a:stretch/>
        </p:blipFill>
        <p:spPr>
          <a:xfrm>
            <a:off x="0" y="1752480"/>
            <a:ext cx="4038480" cy="4245120"/>
          </a:xfrm>
          <a:prstGeom prst="rect">
            <a:avLst/>
          </a:prstGeom>
          <a:ln w="0">
            <a:noFill/>
          </a:ln>
        </p:spPr>
      </p:pic>
      <p:sp>
        <p:nvSpPr>
          <p:cNvPr id="98" name=""/>
          <p:cNvSpPr txBox="1"/>
          <p:nvPr/>
        </p:nvSpPr>
        <p:spPr>
          <a:xfrm>
            <a:off x="1752480" y="609480"/>
            <a:ext cx="54295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Unit Plan Summary:</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0" name="PlaceHolder 2"/>
          <p:cNvSpPr>
            <a:spLocks noGrp="1"/>
          </p:cNvSpPr>
          <p:nvPr>
            <p:ph/>
          </p:nvPr>
        </p:nvSpPr>
        <p:spPr>
          <a:xfrm>
            <a:off x="4756320" y="2361960"/>
            <a:ext cx="377496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What is the importance of learning self-help?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Is conquering our fear in cooking and cleaning possible?</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1" name="" descr=""/>
          <p:cNvPicPr/>
          <p:nvPr/>
        </p:nvPicPr>
        <p:blipFill>
          <a:blip r:embed="rId1"/>
          <a:stretch/>
        </p:blipFill>
        <p:spPr>
          <a:xfrm>
            <a:off x="981000" y="2362320"/>
            <a:ext cx="3336840" cy="3724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457200" y="228600"/>
            <a:ext cx="8686800" cy="17524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Unit Question:</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103" name="PlaceHolder 1"/>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How can we use recycled materials efficiently?</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Why are self-help important to us?</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4" name="" descr=""/>
          <p:cNvPicPr/>
          <p:nvPr/>
        </p:nvPicPr>
        <p:blipFill>
          <a:blip r:embed="rId3"/>
          <a:stretch/>
        </p:blipFill>
        <p:spPr>
          <a:xfrm>
            <a:off x="5538960" y="1600200"/>
            <a:ext cx="3605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doni MT Black"/>
              </a:rPr>
              <a:t>What are the resources needed to create a handicraft materials? </a:t>
            </a:r>
            <a:endParaRPr b="0" lang="en-US" sz="2000" spc="-1" strike="noStrike">
              <a:solidFill>
                <a:srgbClr val="003366"/>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doni MT Black"/>
              </a:rPr>
              <a:t>What things do we need in cleaning an area? </a:t>
            </a: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10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doni MT Black"/>
              </a:rPr>
              <a:t>How can the students create an innovative food?</a:t>
            </a:r>
            <a:endParaRPr b="0" lang="en-US" sz="2000" spc="-1" strike="noStrike">
              <a:solidFill>
                <a:srgbClr val="00336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06" name="" descr=""/>
          <p:cNvPicPr/>
          <p:nvPr/>
        </p:nvPicPr>
        <p:blipFill>
          <a:blip r:embed="rId1"/>
          <a:stretch/>
        </p:blipFill>
        <p:spPr>
          <a:xfrm>
            <a:off x="5105520" y="1905120"/>
            <a:ext cx="4038480" cy="4357440"/>
          </a:xfrm>
          <a:prstGeom prst="rect">
            <a:avLst/>
          </a:prstGeom>
          <a:ln w="0">
            <a:noFill/>
          </a:ln>
        </p:spPr>
      </p:pic>
      <p:sp>
        <p:nvSpPr>
          <p:cNvPr id="107" name=""/>
          <p:cNvSpPr txBox="1"/>
          <p:nvPr/>
        </p:nvSpPr>
        <p:spPr>
          <a:xfrm>
            <a:off x="990720" y="304920"/>
            <a:ext cx="72388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ntent Question:</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Gill Sans Ultra Bold"/>
              </a:rPr>
              <a:t>Benefits of Using Project Approaches, Ongoing Assessment, and CFQs in My Unit</a:t>
            </a:r>
            <a:endParaRPr b="1" lang="en-US" sz="24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Students improve their Basic Life Skill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Students develop Initiative and independence.</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They can help clean the environment.</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Students use their self-help skills to developed about something important to them inside and outside the schoo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Gill Sans Ultra Bold"/>
              </a:rPr>
              <a:t>By Using Project Approaches,</a:t>
            </a:r>
            <a:r>
              <a:rPr b="0" lang="en-US" sz="2800" spc="-1" strike="noStrike">
                <a:solidFill>
                  <a:srgbClr val="990099"/>
                </a:solidFill>
                <a:latin typeface="Gill Sans Ultra Bold"/>
              </a:rPr>
              <a:t>  Ongoing Assessment, and CFQs</a:t>
            </a:r>
            <a:endParaRPr b="1" lang="en-US" sz="28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Bodoni MT Black"/>
              </a:rPr>
              <a:t>My Students Will:</a:t>
            </a:r>
            <a:endParaRPr b="0" lang="en-US" sz="2400" spc="-1" strike="noStrike">
              <a:solidFill>
                <a:srgbClr val="00336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Bodoni MT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Experience  for a real situation and use their self-help skills to develop their learning strategies.</a:t>
            </a:r>
            <a:endParaRPr b="0" lang="en-US" sz="2400" spc="-1" strike="noStrike">
              <a:solidFill>
                <a:srgbClr val="003366"/>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Bodoni MT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achieve self-independence that they will apply for their daily living.</a:t>
            </a:r>
            <a:endParaRPr b="0" lang="en-US" sz="2400" spc="-1" strike="noStrike">
              <a:solidFill>
                <a:srgbClr val="0033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Gill Sans Ultra Bold"/>
              </a:rPr>
              <a:t>Gauging Student Needs Assessment</a:t>
            </a:r>
            <a:endParaRPr b="1" lang="en-US" sz="24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I will use my Essential and Unit Questions to:</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Focus on the real life situation that the student will appreciate in the future</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Find out what students want or don’t want in innovating things.</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Prepare  activities in which they will try to answer their own questions.</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Gill Sans Ultra Bold"/>
              </a:rPr>
              <a:t>Gauging Student Needs Assessment</a:t>
            </a:r>
            <a:endParaRPr b="1" lang="en-US" sz="28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Bodoni MT Black"/>
              </a:rPr>
              <a:t>What my students will gain from the assessme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lnSpc>
                <a:spcPct val="100000"/>
              </a:lnSpc>
              <a:spcBef>
                <a:spcPts val="601"/>
              </a:spcBef>
              <a:buClr>
                <a:srgbClr val="003366"/>
              </a:buClr>
              <a:buSzPct val="75000"/>
              <a:buFont typeface="Bodoni MT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An articulation of their skills in making good assessment.</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Bodoni MT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A chance to set goals in making the outcome activity.</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Bodoni MT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doni MT Black"/>
              </a:rPr>
              <a:t>Apply all self development skills.</a:t>
            </a:r>
            <a:endParaRPr b="0" lang="en-US" sz="2400" spc="-1" strike="noStrike">
              <a:solidFill>
                <a:srgbClr val="00336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9:36:27Z</dcterms:created>
  <dc:creator>nave1386</dc:creator>
  <dc:description/>
  <dc:language>en-US</dc:language>
  <cp:lastModifiedBy>nave1386</cp:lastModifiedBy>
  <dcterms:modified xsi:type="dcterms:W3CDTF">2010-09-02T20:19:14Z</dcterms:modified>
  <cp:revision>7</cp:revision>
  <dc:subject/>
  <dc:title>Slide 1</dc:title>
</cp:coreProperties>
</file>